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869B-F457-4F88-9CC6-858EEE3D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A16B-94F6-42EB-A049-65CAAD89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1154-5DC2-4291-8F8E-42EE0A51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CFE5-6966-4902-9095-C5A5696C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CBC4-A0C5-485B-837B-81B2189C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6C6B-8140-4087-A897-43838F47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C15F-52F9-4849-9652-48B6E00E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0A62-46EC-4C10-86C8-49FBA849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91BF-5326-490A-8617-99178B48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E2C9-22BD-4D91-B299-6F903D39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2A5E-D347-4CE1-AE3A-06222AB9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BCF4-5F14-4AE2-B3C7-6B1E7F60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73C6-C9DB-43A8-AF84-0A187583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56A7-2561-4755-B7F2-21217A47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C41C-BB3C-4B0D-B59F-177116AD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9355-630D-4DF1-9A7C-150228537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288F-9E5E-4BB0-8DC4-9484789BE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8DFA-A82B-4F8C-8527-16D2A6AC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96CF-CCBB-4D2D-8868-C0DA9DAE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B289-9902-4F25-8F71-F7AB4D0A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185F-51CC-49CE-97D2-6994508F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CEA6-3F93-416C-9B34-7DAECAAE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6999-1A33-4251-A241-794F5301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6D50-A002-4C8C-99E6-26AF8F1A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C343-0866-4BCF-A1B1-1441BB4D488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9234-EB00-4D7E-979D-AC28B66EA17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ОД И ПЛАНОВЫЙ ПЕРИОД 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-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14:14Z</dcterms:modified>
  <cp:revision>45</cp:revision>
  <dc:subject/>
  <dc:title>Структура собственных доходов на 2016 год бюджета Дальнереченского городского округа</dc:title>
</cp:coreProperties>
</file>